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65.jpeg" ContentType="image/jpeg"/>
  <Override PartName="/ppt/media/image90.jpeg" ContentType="image/jpeg"/>
  <Override PartName="/ppt/media/image110.jpeg" ContentType="image/jpeg"/>
  <Override PartName="/ppt/media/image93.jpeg" ContentType="image/jpeg"/>
  <Override PartName="/ppt/media/image115.jpeg" ContentType="image/jpeg"/>
  <Override PartName="/ppt/media/image98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66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111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2A2-ABA9-48F8-903C-DC051DAC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7A5-FACE-43B1-B212-576C86C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255-CC9F-4B83-987A-BC04FB3D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9AE-253D-485A-A8B4-1EFBF666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2001-0B20-414F-BEDE-4BAC9B0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406-A5CB-4997-BD87-997CEDBF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617-7332-4C20-A72A-1F1739A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84C-35F6-4F47-8F78-8EDA079E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6AE-28CE-4D6F-AC60-B153BE42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121-6937-49C7-9747-16E8A88B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AE4-077C-435D-925C-EAEC332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06F-C61C-49D6-8CDA-5F22891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04F-C89F-4E67-85DB-8273AF63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53A-5474-4B89-B1FD-01AFF18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08E5-8F2D-42DB-B05D-C1BD0F29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D97B-7D83-44AE-A297-B30154F0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215C-22F6-4C9F-B071-7C7EA5ED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957-D206-4481-A5B4-81906DEA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E87-8C94-4146-B222-B4032F79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7DE-FF20-41C7-A4E2-F56037F2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463-0832-4BE4-90B2-6EE37CFC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70F-ED42-476D-8430-0CF1F08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A87-111C-4A0F-A46B-569B7A1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90C-A8BC-498B-AEB7-27A4AE5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78C-B2EC-433B-8BF8-B6E9135B4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17E4-B3BC-4BF8-B0C3-13271021CE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НИХ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рођене или стечене аномалије нок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нихомик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01744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182600" y="415116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371600" y="1981080"/>
            <a:ext cx="342900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334120" y="2057400"/>
            <a:ext cx="32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1219320" y="3962520"/>
            <a:ext cx="378144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257800" y="4114800"/>
            <a:ext cx="3429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uconych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еле нокатне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нгенитална аномалија или услед повре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хвата цео нокат (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бубрези, јетра, ентеропатиј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?); у виду трака или “пахуља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05520" y="48769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315200" y="99072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Onychoschi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здвајање нокта у виду лис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дица претераног излагања во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Дијета, хипертиреоза, ниско серумско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2057400"/>
            <a:ext cx="1828800" cy="200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Onychogryph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кстремно задебљање нокатних пло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Јавља се код старих људи услед недовољне неге или код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сорија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Нокат као ро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04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ychopha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рицкање нокт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д нервозних и нестабил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ратке нокат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олина упаљ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2895480" cy="1933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ycholysis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Onychorex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дерматозе-псоријаза, екце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е: гљивичне инфе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утрашње болести: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хипохромна ан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02896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581280" y="4038480"/>
            <a:ext cx="1952640" cy="1914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867280" y="4191120"/>
            <a:ext cx="2210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nguis incarn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урастао нок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настаје због неправилног сечење но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267080" cy="3047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4381560" cy="28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окатне плоче код дермат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кц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топијски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х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лопеција ареата и др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азвојне аномал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тка, конгениталн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ледна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мостална или у склопу наследних синдр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окатне плоче код унутрашњих боле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ychia Hippokrat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батичасти нокти, широке нокатне плоче, конвекс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Код обољења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рца и плу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ea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није: код системских болести, инфекција, акутног стре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Трансверзално улегнуће на истом нивоу на свим нок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Померају се како нокат ра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др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томски или функционални поремећај зној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ОБОЉЕЊА АПОКРИНИХ ЖЛЕЗ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покрина бромхидроз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интензиван непријатан мирис у аксил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покрина хромхидроз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обојен зној због велике количине липофусцина у зној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стају код јаког емоционалног стре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dradenitis suppur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philococus sp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reptococcus 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екција апокри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Жене:аксил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шкарци: перианал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и: 1. Чворови-појединачни и болни, опште стање добро. Зат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2. апсцеси, фистуле, фиброза, ожиљц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а: АБ, ретиноиди, хируршка терап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358128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246708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219320" y="4572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876920" y="320040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БОЉЕЊА ЕКРИНИХ ЖЛЕЗ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ПЕРХИДРОЗА- појачано зној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ПОХИДРОЗА-смањено зној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ХИДРОЗА-недостатак зној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ПЕРХИДР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Генерализова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Поремећај терморегулац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Инфек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Ендокрина обољењ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ркоман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лкохолиз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олинергични и адренергични леков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гранич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Палмо-плантар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емоционални узроци, кератодерм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Густатив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физиолошка (лице и горња усна) и патолошка: сирингомијелија, енцефалити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Спинал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оштећења кичмене можд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хиперхидр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луминијум хлор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утаралдех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руршко лече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ПОХИДРОЗЕ И АНХИДР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Конгенитал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 Ихтио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тече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холинерг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илиар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топијски дерматит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потиреоза, Лепра, Сјегренов Синдром, периферна неуропат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: сува кожа, неподношење топло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рапија: лечење основног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ноних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лимични или потпуни недостатак једног или више нок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сутна је на рођењ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7054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24670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6384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li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таје ретенцијом зноја у екриним знојним жлезд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свим узрастима (најчешће дец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2600" y="2017800"/>
          <a:ext cx="7772400" cy="38973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клу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лини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из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crista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самом отвору п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зи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це, врат, аксиле, грудни ко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rub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 спинозном слој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Везикуле са хало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уст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profu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дермо-епидермалном спој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боко усађене везик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46958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04812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990720" y="42670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191120" y="434340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збегавање врућ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упке хиперман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спирање камилиц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уригинозне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једничка карактеристика је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Једини или доминантни симп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убјективни симптом који изазива рефлекс чеша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едијатори:хистамин, серотонин, адреналин, ПГ, цитокини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арактеристике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ж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ширен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из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аја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реме настајањ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екскоријације, лихенификациј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, оштећени нок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279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886200" y="41911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зроци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рмат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, трење, одећа (локализовани пруриту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ољашњи фактори: детерџенти, сапуни, сув ваздух, топлота, леко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нутрашњи фактори: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болести јетре, бубрега, лимфоми, леукемија, полицитемија,висцерални карциноми, дијабетес, хипертире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удноћа, АИДС, психогени факто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блици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изов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енерализов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енилни 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диопатски 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achyonychia congeni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Д наслед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Задебљала нокатна плоча у дисталном делу нокат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 као канџ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79072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419880" y="3809880"/>
            <a:ext cx="272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+уреа (5%, 1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+ментол (0.5-1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ртикостероиди (+/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 терапија: Антихистамин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едат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simplex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857680" cy="2933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229280" cy="3353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981080" y="4876920"/>
            <a:ext cx="25909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uri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66724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905280" y="3352680"/>
            <a:ext cx="5238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urigo nodularis Hy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67000" cy="376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3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хистаминици, седат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биотици код секундарне бактеријске инфе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: Емолијенти, КС, катран, препарати уре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изазване физичким фактори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еханичк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плота и хладно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нична радиј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Јонизујуће зра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атоми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механичким фактори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324480" y="1905120"/>
            <a:ext cx="2571840" cy="2609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3809880" y="38862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топлоте и хладноћ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burns"/>
          <p:cNvPicPr/>
          <p:nvPr/>
        </p:nvPicPr>
        <p:blipFill>
          <a:blip r:embed="rId1"/>
          <a:stretch/>
        </p:blipFill>
        <p:spPr>
          <a:xfrm>
            <a:off x="609480" y="2286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 "/>
          <p:cNvPicPr/>
          <p:nvPr/>
        </p:nvPicPr>
        <p:blipFill>
          <a:blip r:embed="rId3"/>
          <a:stretch/>
        </p:blipFill>
        <p:spPr>
          <a:xfrm>
            <a:off x="4572000" y="3809880"/>
            <a:ext cx="1962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5029200" y="1600200"/>
            <a:ext cx="2505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4286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3352680" cy="5486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216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371600" y="3809880"/>
            <a:ext cx="39528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ilonych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ahoma"/>
              </a:rPr>
              <a:t>Koilos-</a:t>
            </a:r>
            <a:r>
              <a:rPr b="0" i="1" lang="sr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здубљ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атна плоча као сатно стакл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следан поремећај (АД) и стечен (код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хемолитичне анемије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11480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2819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иолошки ефекти  актиничне радијације на кож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а сола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590920" cy="1838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1962000" cy="2743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76920" y="38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2971800" y="9144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807000" cy="268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img1 Dermatoheliosis (Photoaging)"/>
          <p:cNvPicPr/>
          <p:nvPr/>
        </p:nvPicPr>
        <p:blipFill>
          <a:blip r:embed="rId2"/>
          <a:stretch/>
        </p:blipFill>
        <p:spPr>
          <a:xfrm>
            <a:off x="1295280" y="2895480"/>
            <a:ext cx="2362320" cy="2581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238880" y="4038480"/>
            <a:ext cx="1733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токсич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819520" cy="2800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867280" y="25909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2485800" cy="1667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2514600" cy="2419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3657600" y="4038480"/>
            <a:ext cx="1819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3828960" cy="2895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809880" y="3200400"/>
            <a:ext cx="1743120" cy="2629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јонизујућим зрачењ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857320" cy="4686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4695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атомим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дражавање болести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2 облика боле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и :екскоријације, ерозије, улцерације које се не уклапају ни у једну клиничку сли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1905120" cy="1981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324480" y="32004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Perionyxis ac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aphilococcus sp.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s.aerugin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Захвата бочни перионихијум или проксимални део но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Знаци акутног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Плаво-црна боја нокта (пиоцијани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Хируршка ексцизија, АБ пер ос и лок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21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aronychia (Nailbed infection)"/>
          <p:cNvPicPr/>
          <p:nvPr/>
        </p:nvPicPr>
        <p:blipFill>
          <a:blip r:embed="rId4"/>
          <a:stretch/>
        </p:blipFill>
        <p:spPr>
          <a:xfrm>
            <a:off x="3581280" y="4114800"/>
            <a:ext cx="1371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Perionyxis chro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штећење перионихијума средствима за прање или вла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а контаминација кандид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411480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рматофитне инфекције нокатних плоч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ДДг за све претходне обл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5:35:16Z</dcterms:created>
  <dc:creator>XP</dc:creator>
  <dc:description/>
  <dc:language>en-US</dc:language>
  <cp:lastModifiedBy>XP</cp:lastModifiedBy>
  <dcterms:modified xsi:type="dcterms:W3CDTF">2012-12-04T21:19:49Z</dcterms:modified>
  <cp:revision>24</cp:revision>
  <dc:subject/>
  <dc:title>ОНИХОЗЕ</dc:title>
</cp:coreProperties>
</file>